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428-C197-4661-A591-1DD9BD5B5D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0B3F-3D60-48A4-BF74-75BA9FFEEF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F9F-FE0A-41EF-9C2E-61A4FC32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EE7-7EC0-4F36-A75E-A223F033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364-9504-4465-AE45-9D234EE6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43B-94A9-47A7-B1FC-99B35A7E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AC8-9F5C-417E-95EF-54684E9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75A-E3C4-4059-94E7-307EBC2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317-58E0-4958-B295-CFFEE95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C48-C0D5-423C-817B-96C3AD2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541-EB59-4FF2-BF1D-03042E0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0FC-58FD-40DF-9B07-1CC618A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D1C-0D6C-4FDD-8033-9ACFE13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D3B-A476-4F41-B77D-6E28B38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B4E-621F-41FE-B201-FB6FA6DA7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拟在华工作时间：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2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3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4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45600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m</cp:lastModifiedBy>
  <dcterms:modified xsi:type="dcterms:W3CDTF">2012-02-24T02:17:25Z</dcterms:modified>
  <cp:revision>20</cp:revision>
  <dc:subject/>
  <dc:title>PowerPoint 演示文稿</dc:title>
</cp:coreProperties>
</file>